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  <p:custShowLst>
    <p:custShow name="Chapter" id="0">
      <p:sldLst>
        <p:sld r:id="rId4"/>
        <p:sld r:id="rId5"/>
        <p:sld r:id="rId6"/>
        <p:sld r:id="rId7"/>
        <p:sld r:id="rId8"/>
        <p:sld r:id="rId9"/>
        <p:sld r:id="rId11"/>
        <p:sld r:id="rId13"/>
        <p:sld r:id="rId14"/>
        <p:sld r:id="rId15"/>
        <p:sld r:id="rId16"/>
        <p:sld r:id="rId18"/>
        <p:sld r:id="rId19"/>
        <p:sld r:id="rId20"/>
        <p:sld r:id="rId21"/>
      </p:sldLst>
    </p:custShow>
    <p:custShow name="HIS Sect 1" id="1">
      <p:sldLst>
        <p:sld r:id="rId5"/>
        <p:sld r:id="rId6"/>
        <p:sld r:id="rId7"/>
        <p:sld r:id="rId8"/>
        <p:sld r:id="rId9"/>
        <p:sld r:id="rId11"/>
        <p:sld r:id="rId13"/>
        <p:sld r:id="rId14"/>
        <p:sld r:id="rId15"/>
        <p:sld r:id="rId16"/>
        <p:sld r:id="rId18"/>
        <p:sld r:id="rId19"/>
        <p:sld r:id="rId20"/>
        <p:sld r:id="rId21"/>
      </p:sldLst>
    </p:custShow>
    <p:custShow name="HIS Sect 2" id="2">
      <p:sldLst>
        <p:sld r:id="rId14"/>
        <p:sld r:id="rId15"/>
        <p:sld r:id="rId16"/>
        <p:sld r:id="rId18"/>
        <p:sld r:id="rId19"/>
        <p:sld r:id="rId20"/>
        <p:sld r:id="rId21"/>
      </p:sldLst>
    </p:custShow>
    <p:custShow name="Transparencies" id="3">
      <p:sldLst>
        <p:sld r:id="rId8"/>
      </p:sldLst>
    </p:custShow>
    <p:custShow name="Vis Con" id="4">
      <p:sldLst>
        <p:sld r:id="rId1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2.jpeg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image" Target="../media/image3.jpeg"/><Relationship Id="rId8" Type="http://schemas.openxmlformats.org/officeDocument/2006/relationships/slide" Target="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" Target="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4"/>
          <p:cNvSpPr/>
          <p:nvPr/>
        </p:nvSpPr>
        <p:spPr>
          <a:xfrm>
            <a:off x="5283360" y="6643800"/>
            <a:ext cx="304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© by Holt, Rinehart and Winston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350040" y="6248520"/>
            <a:ext cx="1792080" cy="393480"/>
          </a:xfrm>
          <a:prstGeom prst="rect">
            <a:avLst/>
          </a:prstGeom>
          <a:ln w="0">
            <a:noFill/>
          </a:ln>
        </p:spPr>
      </p:pic>
      <p:sp>
        <p:nvSpPr>
          <p:cNvPr id="2" name="Rectangle 6">
            <a:hlinkClick r:id="rId5" action="ppaction://hlinksldjump"/>
          </p:cNvPr>
          <p:cNvSpPr/>
          <p:nvPr/>
        </p:nvSpPr>
        <p:spPr>
          <a:xfrm>
            <a:off x="6483240" y="627840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444920" y="6248520"/>
            <a:ext cx="1792440" cy="393480"/>
          </a:xfrm>
          <a:prstGeom prst="rect">
            <a:avLst/>
          </a:prstGeom>
          <a:ln w="0">
            <a:noFill/>
          </a:ln>
        </p:spPr>
      </p:pic>
      <p:sp>
        <p:nvSpPr>
          <p:cNvPr id="4" name="Rectangle 8">
            <a:hlinkClick r:id="rId8" action="ppaction://hlinksldjump"/>
          </p:cNvPr>
          <p:cNvSpPr/>
          <p:nvPr/>
        </p:nvSpPr>
        <p:spPr>
          <a:xfrm>
            <a:off x="4597560" y="62784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hapter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12"/>
          <p:cNvSpPr/>
          <p:nvPr/>
        </p:nvSpPr>
        <p:spPr>
          <a:xfrm>
            <a:off x="7391520" y="6553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13"/>
          <p:cNvSpPr/>
          <p:nvPr/>
        </p:nvSpPr>
        <p:spPr>
          <a:xfrm>
            <a:off x="3352680" y="-914400"/>
            <a:ext cx="1043280" cy="157644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576440"/>
              <a:gd name="textAreaBottom" fmla="*/ 1509120 h 1576440"/>
            </a:gdLst>
            <a:ahLst/>
            <a:rect l="textAreaLeft" t="textAreaTop" r="textAreaRight" b="textAreaBottom"/>
            <a:pathLst>
              <a:path w="21600" h="32635">
                <a:moveTo>
                  <a:pt x="0" y="0"/>
                </a:moveTo>
                <a:lnTo>
                  <a:pt x="21600" y="0"/>
                </a:lnTo>
                <a:lnTo>
                  <a:pt x="21600" y="32635"/>
                </a:lnTo>
                <a:lnTo>
                  <a:pt x="0" y="32635"/>
                </a:lnTo>
                <a:close/>
              </a:path>
              <a:path fill="lightenLess" w="21600" h="326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635">
                <a:moveTo>
                  <a:pt x="21600" y="0"/>
                </a:moveTo>
                <a:lnTo>
                  <a:pt x="21600" y="32635"/>
                </a:lnTo>
                <a:lnTo>
                  <a:pt x="20200" y="31235"/>
                </a:lnTo>
                <a:lnTo>
                  <a:pt x="20200" y="1400"/>
                </a:lnTo>
                <a:close/>
              </a:path>
              <a:path fill="darkenLess" w="21600" h="32635">
                <a:moveTo>
                  <a:pt x="21600" y="32635"/>
                </a:moveTo>
                <a:lnTo>
                  <a:pt x="0" y="32635"/>
                </a:lnTo>
                <a:lnTo>
                  <a:pt x="1400" y="31235"/>
                </a:lnTo>
                <a:lnTo>
                  <a:pt x="20200" y="31235"/>
                </a:lnTo>
                <a:close/>
              </a:path>
              <a:path fill="lighten" w="21600" h="32635">
                <a:moveTo>
                  <a:pt x="0" y="32635"/>
                </a:moveTo>
                <a:lnTo>
                  <a:pt x="0" y="0"/>
                </a:lnTo>
                <a:lnTo>
                  <a:pt x="1400" y="1400"/>
                </a:lnTo>
                <a:lnTo>
                  <a:pt x="1400" y="3123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5283360" y="6643800"/>
            <a:ext cx="304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© by Holt, Rinehart and Winston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350040" y="6248520"/>
            <a:ext cx="1792080" cy="3934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6483240" y="627840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5"/>
          <a:stretch/>
        </p:blipFill>
        <p:spPr>
          <a:xfrm>
            <a:off x="4444920" y="6248520"/>
            <a:ext cx="1792440" cy="3934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4597560" y="62784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hapter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502920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2"/>
          <p:cNvSpPr/>
          <p:nvPr/>
        </p:nvSpPr>
        <p:spPr>
          <a:xfrm>
            <a:off x="6858000" y="6553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3505320" y="15228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he History of Life on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762120" y="1219320"/>
            <a:ext cx="770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able of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762120" y="1981080"/>
            <a:ext cx="761976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1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idence of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as of the Geologic Time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3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ans and Other Pr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1144800" y="20160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5"/>
          <p:cNvSpPr/>
          <p:nvPr/>
        </p:nvSpPr>
        <p:spPr>
          <a:xfrm>
            <a:off x="762120" y="1981080"/>
            <a:ext cx="3429000" cy="457200"/>
          </a:xfrm>
          <a:custGeom>
            <a:avLst/>
            <a:gdLst>
              <a:gd name="textAreaLeft" fmla="*/ 29520 w 3429000"/>
              <a:gd name="textAreaRight" fmla="*/ 3399480 w 3429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61890" h="21600">
                <a:moveTo>
                  <a:pt x="0" y="0"/>
                </a:moveTo>
                <a:lnTo>
                  <a:pt x="161890" y="0"/>
                </a:lnTo>
                <a:lnTo>
                  <a:pt x="161890" y="21600"/>
                </a:lnTo>
                <a:lnTo>
                  <a:pt x="0" y="21600"/>
                </a:lnTo>
                <a:close/>
              </a:path>
              <a:path fill="lightenLess" w="161890" h="21600">
                <a:moveTo>
                  <a:pt x="0" y="0"/>
                </a:moveTo>
                <a:lnTo>
                  <a:pt x="161890" y="0"/>
                </a:lnTo>
                <a:lnTo>
                  <a:pt x="160490" y="1400"/>
                </a:lnTo>
                <a:lnTo>
                  <a:pt x="1400" y="1400"/>
                </a:lnTo>
                <a:close/>
              </a:path>
              <a:path fill="darken" w="161890" h="21600">
                <a:moveTo>
                  <a:pt x="161890" y="0"/>
                </a:moveTo>
                <a:lnTo>
                  <a:pt x="161890" y="21600"/>
                </a:lnTo>
                <a:lnTo>
                  <a:pt x="160490" y="20200"/>
                </a:lnTo>
                <a:lnTo>
                  <a:pt x="160490" y="1400"/>
                </a:lnTo>
                <a:close/>
              </a:path>
              <a:path fill="darkenLess" w="161890" h="21600">
                <a:moveTo>
                  <a:pt x="161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0490" y="20200"/>
                </a:lnTo>
                <a:close/>
              </a:path>
              <a:path fill="lighten" w="161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7"/>
          <p:cNvSpPr/>
          <p:nvPr/>
        </p:nvSpPr>
        <p:spPr>
          <a:xfrm>
            <a:off x="762120" y="1981080"/>
            <a:ext cx="4495680" cy="457200"/>
          </a:xfrm>
          <a:custGeom>
            <a:avLst/>
            <a:gdLst>
              <a:gd name="textAreaLeft" fmla="*/ 29520 w 4495680"/>
              <a:gd name="textAreaRight" fmla="*/ 4466160 w 4495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2244" h="21600">
                <a:moveTo>
                  <a:pt x="0" y="0"/>
                </a:moveTo>
                <a:lnTo>
                  <a:pt x="212244" y="0"/>
                </a:lnTo>
                <a:lnTo>
                  <a:pt x="212244" y="21600"/>
                </a:lnTo>
                <a:lnTo>
                  <a:pt x="0" y="21600"/>
                </a:lnTo>
                <a:close/>
              </a:path>
              <a:path fill="lightenLess" w="212244" h="21600">
                <a:moveTo>
                  <a:pt x="0" y="0"/>
                </a:moveTo>
                <a:lnTo>
                  <a:pt x="212244" y="0"/>
                </a:lnTo>
                <a:lnTo>
                  <a:pt x="210844" y="1400"/>
                </a:lnTo>
                <a:lnTo>
                  <a:pt x="1400" y="1400"/>
                </a:lnTo>
                <a:close/>
              </a:path>
              <a:path fill="darken" w="212244" h="21600">
                <a:moveTo>
                  <a:pt x="212244" y="0"/>
                </a:moveTo>
                <a:lnTo>
                  <a:pt x="212244" y="21600"/>
                </a:lnTo>
                <a:lnTo>
                  <a:pt x="210844" y="20200"/>
                </a:lnTo>
                <a:lnTo>
                  <a:pt x="210844" y="1400"/>
                </a:lnTo>
                <a:close/>
              </a:path>
              <a:path fill="darkenLess" w="212244" h="21600">
                <a:moveTo>
                  <a:pt x="212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844" y="20200"/>
                </a:lnTo>
                <a:close/>
              </a:path>
              <a:path fill="lighten" w="212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8"/>
          <p:cNvSpPr/>
          <p:nvPr/>
        </p:nvSpPr>
        <p:spPr>
          <a:xfrm>
            <a:off x="762120" y="2666880"/>
            <a:ext cx="6324480" cy="457200"/>
          </a:xfrm>
          <a:custGeom>
            <a:avLst/>
            <a:gdLst>
              <a:gd name="textAreaLeft" fmla="*/ 29520 w 6324480"/>
              <a:gd name="textAreaRight" fmla="*/ 6294960 w 6324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98576" h="21600">
                <a:moveTo>
                  <a:pt x="0" y="0"/>
                </a:moveTo>
                <a:lnTo>
                  <a:pt x="298576" y="0"/>
                </a:lnTo>
                <a:lnTo>
                  <a:pt x="298576" y="21600"/>
                </a:lnTo>
                <a:lnTo>
                  <a:pt x="0" y="21600"/>
                </a:lnTo>
                <a:close/>
              </a:path>
              <a:path fill="lightenLess" w="298576" h="21600">
                <a:moveTo>
                  <a:pt x="0" y="0"/>
                </a:moveTo>
                <a:lnTo>
                  <a:pt x="298576" y="0"/>
                </a:lnTo>
                <a:lnTo>
                  <a:pt x="297176" y="1400"/>
                </a:lnTo>
                <a:lnTo>
                  <a:pt x="1400" y="1400"/>
                </a:lnTo>
                <a:close/>
              </a:path>
              <a:path fill="darken" w="298576" h="21600">
                <a:moveTo>
                  <a:pt x="298576" y="0"/>
                </a:moveTo>
                <a:lnTo>
                  <a:pt x="298576" y="21600"/>
                </a:lnTo>
                <a:lnTo>
                  <a:pt x="297176" y="20200"/>
                </a:lnTo>
                <a:lnTo>
                  <a:pt x="297176" y="1400"/>
                </a:lnTo>
                <a:close/>
              </a:path>
              <a:path fill="darkenLess" w="298576" h="21600">
                <a:moveTo>
                  <a:pt x="298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176" y="20200"/>
                </a:lnTo>
                <a:close/>
              </a:path>
              <a:path fill="lighten" w="298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9"/>
          <p:cNvSpPr/>
          <p:nvPr/>
        </p:nvSpPr>
        <p:spPr>
          <a:xfrm>
            <a:off x="762120" y="3429000"/>
            <a:ext cx="5562360" cy="466560"/>
          </a:xfrm>
          <a:custGeom>
            <a:avLst/>
            <a:gdLst>
              <a:gd name="textAreaLeft" fmla="*/ 30240 w 5562360"/>
              <a:gd name="textAreaRight" fmla="*/ 5532120 w 556236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57335" h="21600">
                <a:moveTo>
                  <a:pt x="0" y="0"/>
                </a:moveTo>
                <a:lnTo>
                  <a:pt x="257335" y="0"/>
                </a:lnTo>
                <a:lnTo>
                  <a:pt x="257335" y="21600"/>
                </a:lnTo>
                <a:lnTo>
                  <a:pt x="0" y="21600"/>
                </a:lnTo>
                <a:close/>
              </a:path>
              <a:path fill="lightenLess" w="257335" h="21600">
                <a:moveTo>
                  <a:pt x="0" y="0"/>
                </a:moveTo>
                <a:lnTo>
                  <a:pt x="257335" y="0"/>
                </a:lnTo>
                <a:lnTo>
                  <a:pt x="255935" y="1400"/>
                </a:lnTo>
                <a:lnTo>
                  <a:pt x="1400" y="1400"/>
                </a:lnTo>
                <a:close/>
              </a:path>
              <a:path fill="darken" w="257335" h="21600">
                <a:moveTo>
                  <a:pt x="257335" y="0"/>
                </a:moveTo>
                <a:lnTo>
                  <a:pt x="257335" y="21600"/>
                </a:lnTo>
                <a:lnTo>
                  <a:pt x="255935" y="20200"/>
                </a:lnTo>
                <a:lnTo>
                  <a:pt x="255935" y="1400"/>
                </a:lnTo>
                <a:close/>
              </a:path>
              <a:path fill="darkenLess" w="257335" h="21600">
                <a:moveTo>
                  <a:pt x="257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35" y="20200"/>
                </a:lnTo>
                <a:close/>
              </a:path>
              <a:path fill="lighten" w="257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3429000" y="152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idence of the P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762120" y="1219320"/>
            <a:ext cx="770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he Changing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838080" y="2031840"/>
            <a:ext cx="739152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daptations to Slow Cha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conditions on the Earth change, organisms may adapt or become extin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apid change, such as a meteorite impact, may cause a mass extinction. But slow changes, such as moving continents, allow time for adap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1144800" y="152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3429000" y="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as of the Geologic Time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762120" y="1219320"/>
            <a:ext cx="770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762120" y="1959120"/>
            <a:ext cx="761976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Outlin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major developments that allowed life to exist on Ea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types of organisms that arose during the four major divisions of the geologic time sc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1144800" y="152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3429000" y="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as of the Geologic Time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762120" y="1219320"/>
            <a:ext cx="770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recambria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838080" y="1905120"/>
            <a:ext cx="762948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ecambrian tim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How Did Life Begin?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cientists think that life developed from simple chemicals in the oceans and in the atmosphere. Energy from radiation and storms could have caused these chemical to re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144800" y="152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3429000" y="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as of the Geologic Time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762120" y="1219320"/>
            <a:ext cx="770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recambrian Time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838080" y="1905120"/>
            <a:ext cx="762948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hotosynthesis and Oxyg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cyanobacteria began to release oxygen gas into the oceans and air. Eventually, some of the oxygen formed a new layer of gas in the upper atmosp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ulticellular Organism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about 1 billion years, organisms that were larger and more complex than prokaryotes appeared in the fossil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1144800" y="152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4"/>
          <p:cNvSpPr/>
          <p:nvPr/>
        </p:nvSpPr>
        <p:spPr>
          <a:xfrm>
            <a:off x="1066680" y="1465200"/>
            <a:ext cx="7296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rigin of Eukaryotic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1144800" y="152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2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7"/>
          <p:cNvSpPr/>
          <p:nvPr/>
        </p:nvSpPr>
        <p:spPr>
          <a:xfrm>
            <a:off x="1141560" y="1981080"/>
            <a:ext cx="7315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below to watch the Visual Conce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ay stop the video at any time by pressing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sc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3"/>
          <a:stretch/>
        </p:blipFill>
        <p:spPr>
          <a:xfrm>
            <a:off x="2514600" y="3200400"/>
            <a:ext cx="3676680" cy="8064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9"/>
          <p:cNvSpPr/>
          <p:nvPr/>
        </p:nvSpPr>
        <p:spPr>
          <a:xfrm>
            <a:off x="2676600" y="33796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sual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3351240" y="0"/>
            <a:ext cx="510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as of the Geolog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3429000" y="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as of the Geologic Time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762120" y="1219320"/>
            <a:ext cx="770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he Paleozoic 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838080" y="1905120"/>
            <a:ext cx="3886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Paleozoic e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gan about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ife on Lan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 the 300 million years of the Paleozoic era, plants, fungi, and air-breathing animals slowly colonized 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144800" y="152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2"/>
          <a:stretch/>
        </p:blipFill>
        <p:spPr>
          <a:xfrm>
            <a:off x="5216400" y="1017720"/>
            <a:ext cx="2556000" cy="499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3429000" y="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as of the Geologic Time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762120" y="1219320"/>
            <a:ext cx="770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he Mesozoic 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828720" y="1828800"/>
            <a:ext cx="762948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esozoic e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gan about 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ife in the Mesozoic E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Dinosaurs are the most well known reptiles that evolved during the Mesozoic 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Extinction of Dinosau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the end of the Mesozoic era, 65.5 million years ago, dinosaurs and many other animal and plant species became extin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1144800" y="152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3429000" y="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as of the Geologic Time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762120" y="1219320"/>
            <a:ext cx="770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he Cenozoic 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828720" y="1828800"/>
            <a:ext cx="762948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enozoic e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gan about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Age of Mammal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Cenozoic era is sometimes called th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Age of Mamma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Mammals have dominated the Cenozoic era the way reptiles dominated the Mesozoic 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Cenozoic Era Toda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are currently living in the Cenozoic era. Modern humans appeared during this 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1144800" y="152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3429000" y="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as of the Geologic Time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1144800" y="152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9" descr=""/>
          <p:cNvPicPr/>
          <p:nvPr/>
        </p:nvPicPr>
        <p:blipFill>
          <a:blip r:embed="rId2"/>
          <a:stretch/>
        </p:blipFill>
        <p:spPr>
          <a:xfrm>
            <a:off x="749160" y="1447920"/>
            <a:ext cx="7772400" cy="40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0"/>
          <p:cNvSpPr/>
          <p:nvPr/>
        </p:nvSpPr>
        <p:spPr>
          <a:xfrm>
            <a:off x="3429000" y="152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idence of the P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762120" y="1219320"/>
            <a:ext cx="770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762120" y="1959120"/>
            <a:ext cx="761976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ow fossils can be formed and how their age can be estim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geologic time scale and the way that scientists us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m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wo ways that conditions for life on Earth have changed over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1144800" y="152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"/>
          <p:cNvSpPr/>
          <p:nvPr/>
        </p:nvSpPr>
        <p:spPr>
          <a:xfrm>
            <a:off x="3429000" y="152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idence of the P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762120" y="1219320"/>
            <a:ext cx="770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Foss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838080" y="1981080"/>
            <a:ext cx="335304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ife Preserved in Roc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ssils are traces or imprints of living things—such as animals, plants, bacteria, and fungi—that are preserved by geological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1144800" y="152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6" descr=""/>
          <p:cNvPicPr/>
          <p:nvPr/>
        </p:nvPicPr>
        <p:blipFill>
          <a:blip r:embed="rId2"/>
          <a:stretch/>
        </p:blipFill>
        <p:spPr>
          <a:xfrm>
            <a:off x="4164120" y="1093680"/>
            <a:ext cx="4143240" cy="431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3429000" y="152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idence of the P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762120" y="1219320"/>
            <a:ext cx="770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he Age of Fossi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838080" y="1981080"/>
            <a:ext cx="739152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ife Preserved in Roc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ting the age of rocks and fossils based on its position in sedimentary rock is called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lative dating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bsolute da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 method that measures the age of fossils or rocks in years. The next slide shows how half-lives can be used to date foss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144800" y="152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3429000" y="152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idence of the P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144800" y="152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0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7602480" cy="45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3429000" y="152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idence of the P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762120" y="1219320"/>
            <a:ext cx="770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he Geologic Time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838080" y="1905120"/>
            <a:ext cx="739152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is called the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geologic time scal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ivisions in Time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eontologists have divided the geologic time scale into large blocks of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ass Extinc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of the important divisions in the geologic time scale mark times when rapid changes happened on Earth. *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tin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144800" y="152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429000" y="152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idence of the P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144800" y="152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l8-10"/>
          <p:cNvPicPr/>
          <p:nvPr/>
        </p:nvPicPr>
        <p:blipFill>
          <a:blip r:embed="rId2"/>
          <a:stretch/>
        </p:blipFill>
        <p:spPr>
          <a:xfrm>
            <a:off x="3200400" y="1143000"/>
            <a:ext cx="2019240" cy="4952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l8-10a"/>
          <p:cNvPicPr/>
          <p:nvPr/>
        </p:nvPicPr>
        <p:blipFill>
          <a:blip r:embed="rId3"/>
          <a:stretch/>
        </p:blipFill>
        <p:spPr>
          <a:xfrm>
            <a:off x="3352680" y="901800"/>
            <a:ext cx="1984320" cy="24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3429000" y="152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idence of the P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762120" y="1219320"/>
            <a:ext cx="7705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he Changing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838080" y="1828800"/>
            <a:ext cx="73915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angae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rman scientist Alfred Wegener proposed that long ago the continents formed one landmass, which he called Pangaea, surrounded by a gigantic oce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o the Continents Move?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mid-1960s, J. Tuzo Wilson of Canada came up with the idea that huge pieces of the Earth’s crust were pushed around by forces within the planet. *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late tectonic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1144800" y="152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429000" y="152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idence of the P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144800" y="152280"/>
            <a:ext cx="182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685800" y="1366920"/>
            <a:ext cx="7848720" cy="4246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ocksund</cp:lastModifiedBy>
  <cp:lastPrinted>2004-02-20T14:12:55Z</cp:lastPrinted>
  <dcterms:modified xsi:type="dcterms:W3CDTF">2013-12-09T18:45:07Z</dcterms:modified>
  <cp:revision>739</cp:revision>
  <dc:subject/>
  <dc:title>No Slide Title</dc:title>
</cp:coreProperties>
</file>